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ED4C-4F40-4FF1-83F1-7A38FD53CD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8867-4BD4-428C-8539-D9A7B3337DA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3133-EB56-4BF6-A114-F09387AE487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FD08-410A-4A75-9BCB-74633F6B024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EB8B-0552-4032-AB17-24CD965B829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FB14-B708-4113-9839-73C5B82200D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39EF-8D1E-4415-8B66-E3DCC74FE44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62AF-1D0F-46B3-8E4A-FB1581CAF14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7DE0-923A-43DD-84E6-616EB27D544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AF98-C561-4CE9-8F68-153B33E8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50C7-8769-49FE-BD35-67419307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74E6-47E7-4D0F-96D2-2FE04B45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4418-A110-4858-992A-F045D4DA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9033-ED03-4A77-88B7-D466C7EF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8BE5-BFFB-40E8-B4EC-54EFBA48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727E-E394-41C9-AE63-F1C30784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DE87-1740-4D97-AC94-2A752B0F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201B-040D-4442-B35D-AC15BEEE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130F-EAC0-488B-9651-9E55606F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3D8C-6014-4850-9A51-DF3FE378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6CDF-4633-4595-A9BD-607862B0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61248B-02E7-4E6A-BEB6-5DB0D00C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B53514-D36D-4E40-98BF-C19389CE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7FF9E2-E578-47DE-86BD-A4A2A494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B23EB2-092A-456B-AF0C-8FAE8773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A01ECF-DD98-4F5D-B224-1B45D7FF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2CE9F9-1097-4290-85B2-ED33E877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143D79-3C1F-442B-93FA-2F73366E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0667FB-FB1D-4FC2-AF57-597E796C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C3E795-633B-43D5-9191-087FEFB7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DCE5E3-D569-45CA-B16C-B08ACB51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CD3FB2-357A-4D5F-94B7-91FF65FD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90834C-9258-40A4-B7F1-A62D729B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04731F-7C96-4F93-AF10-ABB6B5B2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BD9705-F6F4-4F2D-8467-A4793E58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7CB433-AD50-4879-9ED7-57F2177C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CD5EF4-B609-4C9D-983F-5A806A10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AF9AC5-79CC-4475-8BF9-514602C8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AF34EE-EEA7-4C65-AB3F-7BCB60E2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093A3E-F03F-4590-B432-23C9558E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675FC6-9057-45D0-8B46-6EB3A8FF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03BCC2-D405-4ED2-BF9C-28889C23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86FA1D-8E23-4110-B542-E007DBA1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D594C6-96E2-489D-915C-80EBE6A2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FEABD-F1F7-4EE9-85A8-306EECEE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C8E2-811A-4175-A524-1C08B8E2466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4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5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7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99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0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BC24-09B7-4EB8-A1E2-AC02364AC7E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7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A555-2953-47D0-BB69-2DB3B573A152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30B7-AD19-4E8F-AB4C-7BC59D751B6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9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9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1297-4754-449B-AD79-27E79FFE71E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09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12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4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16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21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22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72AF-0409-4B48-8611-9DC292BB536E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7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53AF-4DB1-4067-A818-3B780377173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44F2-EF3C-4A3F-87DE-B990DFFBD9C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5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96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8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9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00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5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06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C29E-1BC4-442E-B76B-352A63D1F3E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5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74E0-14D6-44C9-9D69-2698C1F32B3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5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76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9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0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5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86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E4AE-E7EA-4181-8CE6-DFC28CB276D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3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0DD8-CDFE-43DB-90E3-33EDFAEABDA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7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65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83152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HY강B"/>
                <a:ea typeface="HY강B"/>
              </a:rPr>
              <a:t>1</a:t>
            </a:r>
            <a:r>
              <a:rPr b="0" lang="ko-KR" sz="41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</a:t>
            </a:r>
            <a:endParaRPr b="0" lang="en-US" sz="41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HY강B"/>
                <a:ea typeface="HY강B"/>
              </a:rPr>
              <a:t>2</a:t>
            </a:r>
            <a:r>
              <a:rPr b="1" lang="ko-KR" sz="4800" spc="-1" strike="noStrike">
                <a:solidFill>
                  <a:srgbClr val="ffff00"/>
                </a:solidFill>
                <a:latin typeface="HY강B"/>
                <a:ea typeface="HY강B"/>
              </a:rPr>
              <a:t>장 노화의 과정과 결과</a:t>
            </a:r>
            <a:endParaRPr b="0" lang="en-US" sz="48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그룹 1"/>
          <p:cNvGrpSpPr/>
          <p:nvPr/>
        </p:nvGrpSpPr>
        <p:grpSpPr>
          <a:xfrm>
            <a:off x="285840" y="142920"/>
            <a:ext cx="8678880" cy="5857920"/>
            <a:chOff x="285840" y="142920"/>
            <a:chExt cx="8678880" cy="5857920"/>
          </a:xfrm>
        </p:grpSpPr>
        <p:sp>
          <p:nvSpPr>
            <p:cNvPr id="789" name="AutoShape 2"/>
            <p:cNvSpPr/>
            <p:nvPr/>
          </p:nvSpPr>
          <p:spPr>
            <a:xfrm>
              <a:off x="285840" y="1008000"/>
              <a:ext cx="8644320" cy="4992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0" name="AutoShape 4"/>
            <p:cNvSpPr/>
            <p:nvPr/>
          </p:nvSpPr>
          <p:spPr>
            <a:xfrm>
              <a:off x="285840" y="142920"/>
              <a:ext cx="557208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생물적 노화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1" name="Text Box 6"/>
            <p:cNvSpPr/>
            <p:nvPr/>
          </p:nvSpPr>
          <p:spPr>
            <a:xfrm>
              <a:off x="500040" y="1106280"/>
              <a:ext cx="8464680" cy="48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는 신체질병으로 가득한 시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 가능성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병률이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89.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 이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이전에 발병한 경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9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상이 자립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상생활 동작능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ADL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매력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보고 듣지도 못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냄새 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이빨도 없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화로 인한 외모변화가 사실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화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청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틀니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철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생관리 등으로 보완이 가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심장발작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골절상의 위험이 있으므로 스스로 힘든 일 중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기능 저하는 성인 초기부터 진행되며 치료와 운동으로 극복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들 질환은 노년기만의 특성은 아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에 관심도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생활도 불가능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3006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기능 저하는 사실이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적 노화보다는 성적 파트너 유무가 더 중요하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기부전치료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전 성적 유희 등으로 성생활 유지 가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그룹 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79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심리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5" name="그룹 11"/>
            <p:cNvGrpSpPr/>
            <p:nvPr/>
          </p:nvGrpSpPr>
          <p:grpSpPr>
            <a:xfrm>
              <a:off x="142560" y="928440"/>
              <a:ext cx="8929800" cy="5429520"/>
              <a:chOff x="142560" y="928440"/>
              <a:chExt cx="8929800" cy="5429520"/>
            </a:xfrm>
          </p:grpSpPr>
          <p:sp>
            <p:nvSpPr>
              <p:cNvPr id="796" name="AutoShape 2"/>
              <p:cNvSpPr/>
              <p:nvPr/>
            </p:nvSpPr>
            <p:spPr>
              <a:xfrm>
                <a:off x="142560" y="1643400"/>
                <a:ext cx="8929800" cy="4714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7" name="AutoShape 4"/>
              <p:cNvSpPr/>
              <p:nvPr/>
            </p:nvSpPr>
            <p:spPr>
              <a:xfrm>
                <a:off x="213840" y="92844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개념과 특성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8" name="Text Box 6"/>
              <p:cNvSpPr/>
              <p:nvPr/>
            </p:nvSpPr>
            <p:spPr>
              <a:xfrm>
                <a:off x="285120" y="1765080"/>
                <a:ext cx="8644320" cy="449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 및 정신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등의 심리내적 측면과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적 측면과의 상호작용에 있어서의 퇴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 및 성숙을 동시에 내포하는 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조절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영역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운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 및 정서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적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아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건강 및 장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와의 연관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1063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와 관련된 심리기능은 연령증가와 함께 현저하게 퇴행적 발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험과 관련된 심리기능은 유지 혹은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 생활에서는 정신기능의 쇠퇴가 의미 있는 정도로 나타나지 않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가 사회적 기능을 약화 또는 촉진할 수 있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 역시 심리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노화에 긍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의 영향을 미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그룹 7"/>
          <p:cNvGrpSpPr/>
          <p:nvPr/>
        </p:nvGrpSpPr>
        <p:grpSpPr>
          <a:xfrm>
            <a:off x="41400" y="285840"/>
            <a:ext cx="8959680" cy="6362640"/>
            <a:chOff x="41400" y="285840"/>
            <a:chExt cx="8959680" cy="6362640"/>
          </a:xfrm>
        </p:grpSpPr>
        <p:pic>
          <p:nvPicPr>
            <p:cNvPr id="800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1785960" y="5214960"/>
              <a:ext cx="17938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2" descr="C:\DOCUME~1\USER\LOCALS~1\Temp\UNI00000dfc7a1c.gif"/>
            <p:cNvPicPr/>
            <p:nvPr/>
          </p:nvPicPr>
          <p:blipFill>
            <a:blip r:embed="rId2"/>
            <a:stretch/>
          </p:blipFill>
          <p:spPr>
            <a:xfrm>
              <a:off x="41400" y="5357880"/>
              <a:ext cx="2315880" cy="129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2" name="그룹 1"/>
            <p:cNvGrpSpPr/>
            <p:nvPr/>
          </p:nvGrpSpPr>
          <p:grpSpPr>
            <a:xfrm>
              <a:off x="285840" y="285840"/>
              <a:ext cx="8715240" cy="5072040"/>
              <a:chOff x="285840" y="285840"/>
              <a:chExt cx="8715240" cy="5072040"/>
            </a:xfrm>
          </p:grpSpPr>
          <p:sp>
            <p:nvSpPr>
              <p:cNvPr id="803" name="AutoShape 4"/>
              <p:cNvSpPr/>
              <p:nvPr/>
            </p:nvSpPr>
            <p:spPr>
              <a:xfrm>
                <a:off x="285840" y="285840"/>
                <a:ext cx="5089320" cy="509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주요이론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4" name="AutoShape 2"/>
              <p:cNvSpPr/>
              <p:nvPr/>
            </p:nvSpPr>
            <p:spPr>
              <a:xfrm>
                <a:off x="357120" y="983520"/>
                <a:ext cx="8501040" cy="4374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5" name="Text Box 6"/>
              <p:cNvSpPr/>
              <p:nvPr/>
            </p:nvSpPr>
            <p:spPr>
              <a:xfrm>
                <a:off x="496800" y="1171440"/>
                <a:ext cx="8504280" cy="40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지이론  등 다양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2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Harvighurst, Peck, Clark &amp; Anderso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Erikson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심리사회적 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감소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유전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위기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Miller) 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유지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tchley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초월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그룹 1"/>
          <p:cNvGrpSpPr/>
          <p:nvPr/>
        </p:nvGrpSpPr>
        <p:grpSpPr>
          <a:xfrm>
            <a:off x="142920" y="214200"/>
            <a:ext cx="8820000" cy="6000840"/>
            <a:chOff x="142920" y="214200"/>
            <a:chExt cx="8820000" cy="6000840"/>
          </a:xfrm>
        </p:grpSpPr>
        <p:grpSp>
          <p:nvGrpSpPr>
            <p:cNvPr id="807" name="그룹 6"/>
            <p:cNvGrpSpPr/>
            <p:nvPr/>
          </p:nvGrpSpPr>
          <p:grpSpPr>
            <a:xfrm>
              <a:off x="142920" y="1785600"/>
              <a:ext cx="8820000" cy="4429440"/>
              <a:chOff x="142920" y="1785600"/>
              <a:chExt cx="8820000" cy="4429440"/>
            </a:xfrm>
          </p:grpSpPr>
          <p:sp>
            <p:nvSpPr>
              <p:cNvPr id="808" name="AutoShape 2"/>
              <p:cNvSpPr/>
              <p:nvPr/>
            </p:nvSpPr>
            <p:spPr>
              <a:xfrm>
                <a:off x="142920" y="1785600"/>
                <a:ext cx="8820000" cy="4429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9" name="Text Box 25"/>
              <p:cNvSpPr/>
              <p:nvPr/>
            </p:nvSpPr>
            <p:spPr>
              <a:xfrm>
                <a:off x="214200" y="1904400"/>
                <a:ext cx="8715240" cy="427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4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는 교정해도 정상시력 회복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청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각체계 및 중추신경계의 반응능력 감소로 청각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음의 고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변별력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기에는 보청기 등 사용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미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저하 시작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까지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크게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감소 시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/4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가 후각 문제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촉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통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촉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각은 연령과 큰 관련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자극전달세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사숙고 성향의 증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반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억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보처리 등의 반응속도 저하→ 안전사고 위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-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하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-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으로 줄어들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각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야전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숙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R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경험하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아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 피로회복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동안의 일상생활 지장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10" name="그룹 30"/>
            <p:cNvGrpSpPr/>
            <p:nvPr/>
          </p:nvGrpSpPr>
          <p:grpSpPr>
            <a:xfrm>
              <a:off x="181080" y="214200"/>
              <a:ext cx="8748720" cy="1071360"/>
              <a:chOff x="181080" y="214200"/>
              <a:chExt cx="8748720" cy="1071360"/>
            </a:xfrm>
          </p:grpSpPr>
          <p:sp>
            <p:nvSpPr>
              <p:cNvPr id="811" name="AutoShape 2"/>
              <p:cNvSpPr/>
              <p:nvPr/>
            </p:nvSpPr>
            <p:spPr>
              <a:xfrm>
                <a:off x="181080" y="642600"/>
                <a:ext cx="8677440" cy="642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2" name="AutoShape 7"/>
              <p:cNvSpPr/>
              <p:nvPr/>
            </p:nvSpPr>
            <p:spPr>
              <a:xfrm>
                <a:off x="285480" y="21420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심리적 노화의 양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3" name="Text Box 25"/>
              <p:cNvSpPr/>
              <p:nvPr/>
            </p:nvSpPr>
            <p:spPr>
              <a:xfrm>
                <a:off x="366480" y="814320"/>
                <a:ext cx="856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노화를 감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 및 정신기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로 구분 설명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14" name="AutoShape 29"/>
            <p:cNvSpPr/>
            <p:nvPr/>
          </p:nvSpPr>
          <p:spPr>
            <a:xfrm>
              <a:off x="214200" y="128556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감각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그룹 1"/>
          <p:cNvGrpSpPr/>
          <p:nvPr/>
        </p:nvGrpSpPr>
        <p:grpSpPr>
          <a:xfrm>
            <a:off x="181080" y="142920"/>
            <a:ext cx="8820000" cy="6215040"/>
            <a:chOff x="181080" y="142920"/>
            <a:chExt cx="8820000" cy="6215040"/>
          </a:xfrm>
        </p:grpSpPr>
        <p:sp>
          <p:nvSpPr>
            <p:cNvPr id="816" name="AutoShape 2"/>
            <p:cNvSpPr/>
            <p:nvPr/>
          </p:nvSpPr>
          <p:spPr>
            <a:xfrm>
              <a:off x="181080" y="714240"/>
              <a:ext cx="8820000" cy="5643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Text Box 25"/>
            <p:cNvSpPr/>
            <p:nvPr/>
          </p:nvSpPr>
          <p:spPr>
            <a:xfrm>
              <a:off x="250920" y="908640"/>
              <a:ext cx="8713800" cy="53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뇌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게와 부피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2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394g</a:t>
              </a:r>
              <a:r>
                <a:rPr b="0" lang="en-US" sz="1800" spc="-1" strike="noStrike">
                  <a:solidFill>
                    <a:srgbClr val="1d528d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161g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뉴런 퇴화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반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신경섬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농축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등으로 뇌기능 저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별한 뇌병변 없으면 적정 인지기능 수준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화와 인지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 전부터 지적 능력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Riegel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직전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terminal drop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Kleemeier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8-2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점진적 쇠퇴가 일반적이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유동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7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급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지만 결정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6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까지 꾸준히 증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따라서 지능과 연령이 부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라고 단정하기 어려우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생활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집단효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cohort effect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검사시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건강상태 등에 따라 차이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단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5-1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1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며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한번도 회상해보지 않은 과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으로 구분되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단기 및 최근 기억이 약화됨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학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충분한 학습기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구체적인 과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과에 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즉각적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feedback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으로 보완이 가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Clr>
                  <a:srgbClr val="1d528d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지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직업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효과 등이 복합적으로 작용함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는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에서 상세 설명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반응속도 저하 등을 경험을 통해 얻은 지혜로 보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영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영성이 더욱 깊어지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활동 참여가 감소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AutoShape 29"/>
            <p:cNvSpPr/>
            <p:nvPr/>
          </p:nvSpPr>
          <p:spPr>
            <a:xfrm>
              <a:off x="214200" y="142920"/>
              <a:ext cx="857412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인지 및 정신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그룹 1"/>
          <p:cNvGrpSpPr/>
          <p:nvPr/>
        </p:nvGrpSpPr>
        <p:grpSpPr>
          <a:xfrm>
            <a:off x="109440" y="249120"/>
            <a:ext cx="8820360" cy="6194520"/>
            <a:chOff x="109440" y="249120"/>
            <a:chExt cx="8820360" cy="6194520"/>
          </a:xfrm>
        </p:grpSpPr>
        <p:grpSp>
          <p:nvGrpSpPr>
            <p:cNvPr id="820" name="그룹 6"/>
            <p:cNvGrpSpPr/>
            <p:nvPr/>
          </p:nvGrpSpPr>
          <p:grpSpPr>
            <a:xfrm>
              <a:off x="109440" y="891720"/>
              <a:ext cx="8820360" cy="5551920"/>
              <a:chOff x="109440" y="891720"/>
              <a:chExt cx="8820360" cy="5551920"/>
            </a:xfrm>
          </p:grpSpPr>
          <p:sp>
            <p:nvSpPr>
              <p:cNvPr id="821" name="AutoShape 2"/>
              <p:cNvSpPr/>
              <p:nvPr/>
            </p:nvSpPr>
            <p:spPr>
              <a:xfrm>
                <a:off x="109440" y="891720"/>
                <a:ext cx="8820360" cy="555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22" name="Text Box 25"/>
              <p:cNvSpPr/>
              <p:nvPr/>
            </p:nvSpPr>
            <p:spPr>
              <a:xfrm>
                <a:off x="356760" y="1034640"/>
                <a:ext cx="8501400" cy="538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체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위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로 자아기반 와해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 후 다른 역할로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감정표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감정표현능력 저하되나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문화요인이 더 큰 영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아통합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Erikson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에 대해 만족하고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을 인정하고 기다림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삶을 후회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불만족하며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 수용 못하고 우울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인 원망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죽음에 대한 태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 성취 정도에 따라 차이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권장도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Kogan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변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Ruth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와 관련된 주장이 상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년기 성격변화의 특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내향성 및 수동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조심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직성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우울성향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생에 대한 회상의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근한 사물에 대한 애착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역할 지각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존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간 전망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남기려는 경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Richard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 노년기 성격유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숙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방어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둔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분노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학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3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23" name="AutoShape 29"/>
            <p:cNvSpPr/>
            <p:nvPr/>
          </p:nvSpPr>
          <p:spPr>
            <a:xfrm>
              <a:off x="214200" y="249120"/>
              <a:ext cx="857304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정서 및 성격변화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2" descr="C:\DOCUME~1\USER\LOCALS~1\Temp\UNI0000080471b7.gif"/>
          <p:cNvPicPr/>
          <p:nvPr/>
        </p:nvPicPr>
        <p:blipFill>
          <a:blip r:embed="rId1"/>
          <a:stretch/>
        </p:blipFill>
        <p:spPr>
          <a:xfrm>
            <a:off x="7880400" y="0"/>
            <a:ext cx="1263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825" name="그룹 1"/>
          <p:cNvGrpSpPr/>
          <p:nvPr/>
        </p:nvGrpSpPr>
        <p:grpSpPr>
          <a:xfrm>
            <a:off x="285840" y="285840"/>
            <a:ext cx="8647200" cy="6000840"/>
            <a:chOff x="285840" y="285840"/>
            <a:chExt cx="8647200" cy="6000840"/>
          </a:xfrm>
        </p:grpSpPr>
        <p:sp>
          <p:nvSpPr>
            <p:cNvPr id="826" name="AutoShape 4"/>
            <p:cNvSpPr/>
            <p:nvPr/>
          </p:nvSpPr>
          <p:spPr>
            <a:xfrm>
              <a:off x="285840" y="285840"/>
              <a:ext cx="508788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심리적 노화의 신화와 사실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7" name="AutoShape 2"/>
            <p:cNvSpPr/>
            <p:nvPr/>
          </p:nvSpPr>
          <p:spPr>
            <a:xfrm>
              <a:off x="285840" y="983520"/>
              <a:ext cx="8643960" cy="530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8" name="Text Box 6"/>
            <p:cNvSpPr/>
            <p:nvPr/>
          </p:nvSpPr>
          <p:spPr>
            <a:xfrm>
              <a:off x="428400" y="1146960"/>
              <a:ext cx="8504640" cy="50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루 종일 잠만 잔다→ 수면부족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낮시간의 지루함 해소 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융통성 없고 고집스러움 → 더 넓게 보고 사고함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혜의 표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평화롭고 평안한 시기 → 관계위축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위상실 등의 스트레스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저하와 치매 → 단기기억상실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의 치매 유병률은 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.8%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학습이 어렵고 지능저하 → 구체적이고 흥미로운 과제와 충분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과 동기를 부여하면 능력 상승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정성 지능은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문제해결 능력저하 → 단순히 노화에 의한 능력저하는 아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젊은이보다 죽음을 두려워함 → 대부분 죽음을 편안히 수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의존적임 → 대부분의 노인들은 자립적 생활 가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 → 종교참여빈도 높아지고 영성이 깊어지는 것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일지라도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하지는 않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그룹 13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grpSp>
          <p:nvGrpSpPr>
            <p:cNvPr id="830" name="그룹 20"/>
            <p:cNvGrpSpPr/>
            <p:nvPr/>
          </p:nvGrpSpPr>
          <p:grpSpPr>
            <a:xfrm>
              <a:off x="0" y="0"/>
              <a:ext cx="9144000" cy="3857760"/>
              <a:chOff x="0" y="0"/>
              <a:chExt cx="9144000" cy="3857760"/>
            </a:xfrm>
          </p:grpSpPr>
          <p:sp>
            <p:nvSpPr>
              <p:cNvPr id="831" name="AutoShape 2"/>
              <p:cNvSpPr/>
              <p:nvPr/>
            </p:nvSpPr>
            <p:spPr>
              <a:xfrm>
                <a:off x="285480" y="1643040"/>
                <a:ext cx="8715600" cy="221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3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사회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15"/>
            <p:cNvGrpSpPr/>
            <p:nvPr/>
          </p:nvGrpSpPr>
          <p:grpSpPr>
            <a:xfrm>
              <a:off x="285480" y="1145880"/>
              <a:ext cx="8715600" cy="5069160"/>
              <a:chOff x="285480" y="1145880"/>
              <a:chExt cx="8715600" cy="5069160"/>
            </a:xfrm>
          </p:grpSpPr>
          <p:sp>
            <p:nvSpPr>
              <p:cNvPr id="835" name="AutoShape 2"/>
              <p:cNvSpPr/>
              <p:nvPr/>
            </p:nvSpPr>
            <p:spPr>
              <a:xfrm>
                <a:off x="285480" y="4643280"/>
                <a:ext cx="8715600" cy="15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836" name="그룹 10"/>
              <p:cNvGrpSpPr/>
              <p:nvPr/>
            </p:nvGrpSpPr>
            <p:grpSpPr>
              <a:xfrm>
                <a:off x="356760" y="1145880"/>
                <a:ext cx="8644320" cy="2676960"/>
                <a:chOff x="356760" y="1145880"/>
                <a:chExt cx="8644320" cy="2676960"/>
              </a:xfrm>
            </p:grpSpPr>
            <p:sp>
              <p:nvSpPr>
                <p:cNvPr id="837" name="AutoShape 4"/>
                <p:cNvSpPr/>
                <p:nvPr/>
              </p:nvSpPr>
              <p:spPr>
                <a:xfrm>
                  <a:off x="356760" y="1145880"/>
                  <a:ext cx="464364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6"/>
                <p:cNvSpPr/>
                <p:nvPr/>
              </p:nvSpPr>
              <p:spPr>
                <a:xfrm>
                  <a:off x="356760" y="1785600"/>
                  <a:ext cx="8644320" cy="20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로의 전환과 함께 나타나는 개인수준의 사회적 상황변화 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계망과 상호작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규범과 사회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지위와 역할의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영역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인수준의 사회적 상황변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가 노인에 미치는 영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로 인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나타나는 사회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반적으로 개인 수준의 사회적 상황변화를 중심으로 논의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그룹 10"/>
              <p:cNvGrpSpPr/>
              <p:nvPr/>
            </p:nvGrpSpPr>
            <p:grpSpPr>
              <a:xfrm>
                <a:off x="356760" y="4143240"/>
                <a:ext cx="8644320" cy="2031120"/>
                <a:chOff x="356760" y="4143240"/>
                <a:chExt cx="8644320" cy="2031120"/>
              </a:xfrm>
            </p:grpSpPr>
            <p:sp>
              <p:nvSpPr>
                <p:cNvPr id="840" name="AutoShape 4"/>
                <p:cNvSpPr/>
                <p:nvPr/>
              </p:nvSpPr>
              <p:spPr>
                <a:xfrm>
                  <a:off x="356760" y="4143240"/>
                  <a:ext cx="4643640" cy="499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주요 이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6"/>
                <p:cNvSpPr/>
                <p:nvPr/>
              </p:nvSpPr>
              <p:spPr>
                <a:xfrm>
                  <a:off x="356760" y="4754160"/>
                  <a:ext cx="8644320" cy="14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활동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분리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지속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역할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스트레스 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생활과정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현대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조지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낙인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사회와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하위문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연령계층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세계체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치경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교환이론 등 매우 다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그룹 1"/>
          <p:cNvGrpSpPr/>
          <p:nvPr/>
        </p:nvGrpSpPr>
        <p:grpSpPr>
          <a:xfrm>
            <a:off x="108000" y="142920"/>
            <a:ext cx="9288360" cy="6303960"/>
            <a:chOff x="108000" y="142920"/>
            <a:chExt cx="9288360" cy="6303960"/>
          </a:xfrm>
        </p:grpSpPr>
        <p:sp>
          <p:nvSpPr>
            <p:cNvPr id="843" name="AutoShape 4"/>
            <p:cNvSpPr/>
            <p:nvPr/>
          </p:nvSpPr>
          <p:spPr>
            <a:xfrm>
              <a:off x="285480" y="142920"/>
              <a:ext cx="44290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사회적 노화의 양상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4" name="AutoShape 2"/>
            <p:cNvSpPr/>
            <p:nvPr/>
          </p:nvSpPr>
          <p:spPr>
            <a:xfrm>
              <a:off x="214560" y="857160"/>
              <a:ext cx="8819640" cy="702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5" name="Text Box 6"/>
            <p:cNvSpPr/>
            <p:nvPr/>
          </p:nvSpPr>
          <p:spPr>
            <a:xfrm>
              <a:off x="250560" y="764640"/>
              <a:ext cx="914580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관계망과 상호작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규범과 사회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위와 역할변화로 구분 설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에서 상세히 논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46" name="그룹 6"/>
            <p:cNvGrpSpPr/>
            <p:nvPr/>
          </p:nvGrpSpPr>
          <p:grpSpPr>
            <a:xfrm>
              <a:off x="108000" y="1485000"/>
              <a:ext cx="8893080" cy="4961880"/>
              <a:chOff x="108000" y="1485000"/>
              <a:chExt cx="8893080" cy="4961880"/>
            </a:xfrm>
          </p:grpSpPr>
          <p:grpSp>
            <p:nvGrpSpPr>
              <p:cNvPr id="847" name="그룹 6"/>
              <p:cNvGrpSpPr/>
              <p:nvPr/>
            </p:nvGrpSpPr>
            <p:grpSpPr>
              <a:xfrm>
                <a:off x="108000" y="1845000"/>
                <a:ext cx="8893080" cy="4601880"/>
                <a:chOff x="108000" y="1845000"/>
                <a:chExt cx="8893080" cy="4601880"/>
              </a:xfrm>
            </p:grpSpPr>
            <p:sp>
              <p:nvSpPr>
                <p:cNvPr id="848" name="AutoShape 2"/>
                <p:cNvSpPr/>
                <p:nvPr/>
              </p:nvSpPr>
              <p:spPr>
                <a:xfrm>
                  <a:off x="108000" y="1917000"/>
                  <a:ext cx="8819640" cy="4529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9" name="Text Box 25"/>
                <p:cNvSpPr/>
                <p:nvPr/>
              </p:nvSpPr>
              <p:spPr>
                <a:xfrm>
                  <a:off x="357120" y="1845000"/>
                  <a:ext cx="8643960" cy="45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친구의 상실 등으로 관계망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1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차 집단 그 중에서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가 사회적 관계의 중심이 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명연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 양육기간 감소로 노후 여가시간과 노부부시기 연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관계의 결정요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자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범위조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양성적 역할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상실의 영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우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통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죄의식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활동 관심저하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황혼이혼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 재혼의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모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자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별거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접촉빈도 감소 등의 양적 변화와 아울러 정서적 유대관계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추세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empty nest period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를 잘 극복하기 위해서 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유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상호지원관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형성이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AutoShape 29"/>
              <p:cNvSpPr/>
              <p:nvPr/>
            </p:nvSpPr>
            <p:spPr>
              <a:xfrm>
                <a:off x="142920" y="1485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사회적 관계망과의 상호작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그룹 9"/>
          <p:cNvGrpSpPr/>
          <p:nvPr/>
        </p:nvGrpSpPr>
        <p:grpSpPr>
          <a:xfrm>
            <a:off x="142920" y="77760"/>
            <a:ext cx="8891640" cy="6280200"/>
            <a:chOff x="142920" y="77760"/>
            <a:chExt cx="8891640" cy="6280200"/>
          </a:xfrm>
        </p:grpSpPr>
        <p:grpSp>
          <p:nvGrpSpPr>
            <p:cNvPr id="852" name="그룹 6"/>
            <p:cNvGrpSpPr/>
            <p:nvPr/>
          </p:nvGrpSpPr>
          <p:grpSpPr>
            <a:xfrm>
              <a:off x="214200" y="77760"/>
              <a:ext cx="8820360" cy="2637360"/>
              <a:chOff x="214200" y="77760"/>
              <a:chExt cx="8820360" cy="2637360"/>
            </a:xfrm>
          </p:grpSpPr>
          <p:sp>
            <p:nvSpPr>
              <p:cNvPr id="853" name="AutoShape 2"/>
              <p:cNvSpPr/>
              <p:nvPr/>
            </p:nvSpPr>
            <p:spPr>
              <a:xfrm>
                <a:off x="214200" y="142920"/>
                <a:ext cx="8820360" cy="2572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54" name="Text Box 25"/>
              <p:cNvSpPr/>
              <p:nvPr/>
            </p:nvSpPr>
            <p:spPr>
              <a:xfrm>
                <a:off x="356760" y="77760"/>
                <a:ext cx="8644320" cy="26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손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전수와 손자녀 교육 기능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온화하고 관대해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거리형과 재미추구형 조손관계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친구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존관계의 축소에 따라 친구관계가 주요 자아지지 기반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수 줄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친구 사귀기 어렵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웃과 중복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관계 유지 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지역 장기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55" name="그룹 11"/>
            <p:cNvGrpSpPr/>
            <p:nvPr/>
          </p:nvGrpSpPr>
          <p:grpSpPr>
            <a:xfrm>
              <a:off x="142920" y="2675160"/>
              <a:ext cx="8891640" cy="3682800"/>
              <a:chOff x="142920" y="2675160"/>
              <a:chExt cx="8891640" cy="3682800"/>
            </a:xfrm>
          </p:grpSpPr>
          <p:grpSp>
            <p:nvGrpSpPr>
              <p:cNvPr id="856" name="그룹 6"/>
              <p:cNvGrpSpPr/>
              <p:nvPr/>
            </p:nvGrpSpPr>
            <p:grpSpPr>
              <a:xfrm>
                <a:off x="214200" y="3206880"/>
                <a:ext cx="8820360" cy="3151080"/>
                <a:chOff x="214200" y="3206880"/>
                <a:chExt cx="8820360" cy="3151080"/>
              </a:xfrm>
            </p:grpSpPr>
            <p:sp>
              <p:nvSpPr>
                <p:cNvPr id="857" name="AutoShape 2"/>
                <p:cNvSpPr/>
                <p:nvPr/>
              </p:nvSpPr>
              <p:spPr>
                <a:xfrm>
                  <a:off x="214200" y="3206880"/>
                  <a:ext cx="8820360" cy="3151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58" name="Text Box 25"/>
                <p:cNvSpPr/>
                <p:nvPr/>
              </p:nvSpPr>
              <p:spPr>
                <a:xfrm>
                  <a:off x="356760" y="3246480"/>
                  <a:ext cx="8644320" cy="30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상호작용을 통해 규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기대 등을 학습하고 사회생활에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필요한 기술을 발전시키는 사회적 학습과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는 젊은 층의 사회화에 더욱 주력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의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ge norm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 대한 합의가 이루어지지 않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각이 혼재함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다만 사회에서의 분리보다는 활기찬 노화를 선호하는 방향으로 전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예비적 사회화 없이 노년기에 진입하므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후적응에 문제를 경험하고 사회적 소외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험 가능성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들은 ‘나이값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acting his age)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 못하는 사람’으로 취급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비난과 차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받을 가능성이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AutoShape 29"/>
              <p:cNvSpPr/>
              <p:nvPr/>
            </p:nvSpPr>
            <p:spPr>
              <a:xfrm>
                <a:off x="142920" y="267516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연령규범과 사회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669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1" name="그룹 45"/>
          <p:cNvGrpSpPr/>
          <p:nvPr/>
        </p:nvGrpSpPr>
        <p:grpSpPr>
          <a:xfrm>
            <a:off x="0" y="1211400"/>
            <a:ext cx="8842320" cy="5360760"/>
            <a:chOff x="0" y="1211400"/>
            <a:chExt cx="8842320" cy="5360760"/>
          </a:xfrm>
        </p:grpSpPr>
        <p:sp>
          <p:nvSpPr>
            <p:cNvPr id="672" name="Rectangle 42"/>
            <p:cNvSpPr/>
            <p:nvPr/>
          </p:nvSpPr>
          <p:spPr>
            <a:xfrm>
              <a:off x="6037200" y="6259680"/>
              <a:ext cx="16570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Line 9"/>
            <p:cNvSpPr/>
            <p:nvPr/>
          </p:nvSpPr>
          <p:spPr>
            <a:xfrm flipV="1">
              <a:off x="0" y="2928960"/>
              <a:ext cx="1000080" cy="10713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V="1">
              <a:off x="0" y="3974760"/>
              <a:ext cx="1357200" cy="457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Line 13"/>
            <p:cNvSpPr/>
            <p:nvPr/>
          </p:nvSpPr>
          <p:spPr>
            <a:xfrm>
              <a:off x="0" y="4000680"/>
              <a:ext cx="857160" cy="1935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Line 64"/>
            <p:cNvSpPr/>
            <p:nvPr/>
          </p:nvSpPr>
          <p:spPr>
            <a:xfrm>
              <a:off x="0" y="3994200"/>
              <a:ext cx="857160" cy="9349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Line 9"/>
            <p:cNvSpPr/>
            <p:nvPr/>
          </p:nvSpPr>
          <p:spPr>
            <a:xfrm flipV="1">
              <a:off x="0" y="2214720"/>
              <a:ext cx="928440" cy="16365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AutoShape 4"/>
            <p:cNvSpPr/>
            <p:nvPr/>
          </p:nvSpPr>
          <p:spPr>
            <a:xfrm>
              <a:off x="1622160" y="1824120"/>
              <a:ext cx="7199280" cy="6696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개념과 영역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79" name="Group 14"/>
            <p:cNvGrpSpPr/>
            <p:nvPr/>
          </p:nvGrpSpPr>
          <p:grpSpPr>
            <a:xfrm>
              <a:off x="642960" y="1843200"/>
              <a:ext cx="856800" cy="714600"/>
              <a:chOff x="642960" y="1843200"/>
              <a:chExt cx="856800" cy="714600"/>
            </a:xfrm>
          </p:grpSpPr>
          <p:sp>
            <p:nvSpPr>
              <p:cNvPr id="680" name="Oval 15"/>
              <p:cNvSpPr/>
              <p:nvPr/>
            </p:nvSpPr>
            <p:spPr>
              <a:xfrm>
                <a:off x="664200" y="1843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1" name="Oval 16"/>
              <p:cNvSpPr/>
              <p:nvPr/>
            </p:nvSpPr>
            <p:spPr>
              <a:xfrm>
                <a:off x="664200" y="184500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716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Text Box 18"/>
              <p:cNvSpPr/>
              <p:nvPr/>
            </p:nvSpPr>
            <p:spPr>
              <a:xfrm>
                <a:off x="642960" y="1849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14"/>
            <p:cNvGrpSpPr/>
            <p:nvPr/>
          </p:nvGrpSpPr>
          <p:grpSpPr>
            <a:xfrm>
              <a:off x="642960" y="2780280"/>
              <a:ext cx="856800" cy="714600"/>
              <a:chOff x="642960" y="2780280"/>
              <a:chExt cx="856800" cy="714600"/>
            </a:xfrm>
          </p:grpSpPr>
          <p:sp>
            <p:nvSpPr>
              <p:cNvPr id="685" name="Oval 15"/>
              <p:cNvSpPr/>
              <p:nvPr/>
            </p:nvSpPr>
            <p:spPr>
              <a:xfrm>
                <a:off x="664200" y="278028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Oval 16"/>
              <p:cNvSpPr/>
              <p:nvPr/>
            </p:nvSpPr>
            <p:spPr>
              <a:xfrm>
                <a:off x="664200" y="2782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424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Text Box 18"/>
              <p:cNvSpPr/>
              <p:nvPr/>
            </p:nvSpPr>
            <p:spPr>
              <a:xfrm>
                <a:off x="642960" y="278424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4"/>
            <p:cNvGrpSpPr/>
            <p:nvPr/>
          </p:nvGrpSpPr>
          <p:grpSpPr>
            <a:xfrm>
              <a:off x="642960" y="3718440"/>
              <a:ext cx="856800" cy="714600"/>
              <a:chOff x="642960" y="3718440"/>
              <a:chExt cx="856800" cy="714600"/>
            </a:xfrm>
          </p:grpSpPr>
          <p:sp>
            <p:nvSpPr>
              <p:cNvPr id="690" name="Oval 15"/>
              <p:cNvSpPr/>
              <p:nvPr/>
            </p:nvSpPr>
            <p:spPr>
              <a:xfrm>
                <a:off x="664200" y="3718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16"/>
              <p:cNvSpPr/>
              <p:nvPr/>
            </p:nvSpPr>
            <p:spPr>
              <a:xfrm>
                <a:off x="664200" y="3720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2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Text Box 18"/>
              <p:cNvSpPr/>
              <p:nvPr/>
            </p:nvSpPr>
            <p:spPr>
              <a:xfrm>
                <a:off x="642960" y="372240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14"/>
            <p:cNvGrpSpPr/>
            <p:nvPr/>
          </p:nvGrpSpPr>
          <p:grpSpPr>
            <a:xfrm>
              <a:off x="642960" y="4655160"/>
              <a:ext cx="856800" cy="714600"/>
              <a:chOff x="642960" y="4655160"/>
              <a:chExt cx="856800" cy="714600"/>
            </a:xfrm>
          </p:grpSpPr>
          <p:sp>
            <p:nvSpPr>
              <p:cNvPr id="695" name="Oval 15"/>
              <p:cNvSpPr/>
              <p:nvPr/>
            </p:nvSpPr>
            <p:spPr>
              <a:xfrm>
                <a:off x="664200" y="4655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Oval 16"/>
              <p:cNvSpPr/>
              <p:nvPr/>
            </p:nvSpPr>
            <p:spPr>
              <a:xfrm>
                <a:off x="664200" y="4656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9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Text Box 18"/>
              <p:cNvSpPr/>
              <p:nvPr/>
            </p:nvSpPr>
            <p:spPr>
              <a:xfrm>
                <a:off x="642960" y="4659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14"/>
            <p:cNvGrpSpPr/>
            <p:nvPr/>
          </p:nvGrpSpPr>
          <p:grpSpPr>
            <a:xfrm>
              <a:off x="642960" y="5571360"/>
              <a:ext cx="856800" cy="714600"/>
              <a:chOff x="642960" y="5571360"/>
              <a:chExt cx="856800" cy="714600"/>
            </a:xfrm>
          </p:grpSpPr>
          <p:sp>
            <p:nvSpPr>
              <p:cNvPr id="700" name="Oval 15"/>
              <p:cNvSpPr/>
              <p:nvPr/>
            </p:nvSpPr>
            <p:spPr>
              <a:xfrm>
                <a:off x="664200" y="5571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Oval 16"/>
              <p:cNvSpPr/>
              <p:nvPr/>
            </p:nvSpPr>
            <p:spPr>
              <a:xfrm>
                <a:off x="664200" y="5573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702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5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Text Box 18"/>
              <p:cNvSpPr/>
              <p:nvPr/>
            </p:nvSpPr>
            <p:spPr>
              <a:xfrm>
                <a:off x="642960" y="5575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4" name="AutoShape 4"/>
            <p:cNvSpPr/>
            <p:nvPr/>
          </p:nvSpPr>
          <p:spPr>
            <a:xfrm>
              <a:off x="1643040" y="2760480"/>
              <a:ext cx="7199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기초이론 학습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AutoShape 4"/>
            <p:cNvSpPr/>
            <p:nvPr/>
          </p:nvSpPr>
          <p:spPr>
            <a:xfrm>
              <a:off x="1622160" y="3697200"/>
              <a:ext cx="722016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화의 결과로 인한 노년기 삶의 변화 양상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4"/>
            <p:cNvSpPr/>
            <p:nvPr/>
          </p:nvSpPr>
          <p:spPr>
            <a:xfrm>
              <a:off x="1643040" y="4633920"/>
              <a:ext cx="7199280" cy="6775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 영역별 사실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fact)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과 신화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myth) 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AutoShape 4"/>
            <p:cNvSpPr/>
            <p:nvPr/>
          </p:nvSpPr>
          <p:spPr>
            <a:xfrm>
              <a:off x="1643040" y="5570640"/>
              <a:ext cx="7199280" cy="680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성공적 노화의 구성요인과 촉진방안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AutoShape 7"/>
            <p:cNvSpPr/>
            <p:nvPr/>
          </p:nvSpPr>
          <p:spPr>
            <a:xfrm>
              <a:off x="250560" y="12114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7"/>
          <p:cNvGrpSpPr/>
          <p:nvPr/>
        </p:nvGrpSpPr>
        <p:grpSpPr>
          <a:xfrm>
            <a:off x="71280" y="214200"/>
            <a:ext cx="9001440" cy="6000840"/>
            <a:chOff x="71280" y="214200"/>
            <a:chExt cx="9001440" cy="6000840"/>
          </a:xfrm>
        </p:grpSpPr>
        <p:sp>
          <p:nvSpPr>
            <p:cNvPr id="861" name="AutoShape 2"/>
            <p:cNvSpPr/>
            <p:nvPr/>
          </p:nvSpPr>
          <p:spPr>
            <a:xfrm>
              <a:off x="71280" y="714240"/>
              <a:ext cx="9001440" cy="55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2" name="Text Box 25"/>
            <p:cNvSpPr/>
            <p:nvPr/>
          </p:nvSpPr>
          <p:spPr>
            <a:xfrm>
              <a:off x="214200" y="857160"/>
              <a:ext cx="8786880" cy="52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인기까지는 사회적 역할과 지위의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상실이 많으므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의 시기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roleless  role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도 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단순한 상실보다는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이 복합되므로 역할전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role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ransition)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 보는 것이 더욱 타당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Rosow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노년기 역할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도적 지위 약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박한 지위 강화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2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역할의 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인→ 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유지자→ 피부양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부 → 독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부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 줄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은 큰 변화 없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Neugarten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의 사회적 역할수행 유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구성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리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속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한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구원요청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감각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해형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5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와 역할 전환의 영향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가치 절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존감 및 삶의 만족도 저하 등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적 영향도 있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부분의 노인들은 역할전환에 성공적으로 적응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지위와 역할에 만족하는 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3" name="직사각형 15"/>
            <p:cNvSpPr/>
            <p:nvPr/>
          </p:nvSpPr>
          <p:spPr>
            <a:xfrm>
              <a:off x="142920" y="214200"/>
              <a:ext cx="61578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지위와 역할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그룹 6"/>
          <p:cNvGrpSpPr/>
          <p:nvPr/>
        </p:nvGrpSpPr>
        <p:grpSpPr>
          <a:xfrm>
            <a:off x="285840" y="0"/>
            <a:ext cx="8858160" cy="6215040"/>
            <a:chOff x="285840" y="0"/>
            <a:chExt cx="8858160" cy="6215040"/>
          </a:xfrm>
        </p:grpSpPr>
        <p:pic>
          <p:nvPicPr>
            <p:cNvPr id="865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6" name="그룹 1"/>
            <p:cNvGrpSpPr/>
            <p:nvPr/>
          </p:nvGrpSpPr>
          <p:grpSpPr>
            <a:xfrm>
              <a:off x="285840" y="285480"/>
              <a:ext cx="8643960" cy="5929560"/>
              <a:chOff x="285840" y="285480"/>
              <a:chExt cx="8643960" cy="5929560"/>
            </a:xfrm>
          </p:grpSpPr>
          <p:sp>
            <p:nvSpPr>
              <p:cNvPr id="867" name="AutoShape 4"/>
              <p:cNvSpPr/>
              <p:nvPr/>
            </p:nvSpPr>
            <p:spPr>
              <a:xfrm>
                <a:off x="285840" y="285480"/>
                <a:ext cx="54291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800" spc="-1" strike="noStrike">
                    <a:solidFill>
                      <a:srgbClr val="ffffff"/>
                    </a:solidFill>
                    <a:latin typeface="HY강B"/>
                  </a:rPr>
                  <a:t>사회적 노화의 신화와 사실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8" name="AutoShape 2"/>
              <p:cNvSpPr/>
              <p:nvPr/>
            </p:nvSpPr>
            <p:spPr>
              <a:xfrm>
                <a:off x="285840" y="1045440"/>
                <a:ext cx="8643960" cy="5169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9" name="Text Box 6"/>
              <p:cNvSpPr/>
              <p:nvPr/>
            </p:nvSpPr>
            <p:spPr>
              <a:xfrm>
                <a:off x="357120" y="1329840"/>
                <a:ext cx="8504640" cy="46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류사회에서 퇴출 → 봉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을 통해 주류사회 참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독하고 소외됨 → 자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웃과 유기적 관계 형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가난 → 빈곤 가능성 높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녀 지원으로 경제생활유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혼자 있고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청 → 소극적이고 시간소모적 여가활동 많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는 여가환경 미비에 기인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가의식이 개선되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학대와 방임 → 학대와 차별이 증가하나 자녀 존경 받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확대로 인한 가족기능 약화 → 가족기능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강화 기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할 수 없음 →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4%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도가 일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bridge job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을 가진 후 은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관심과 투표율 낮음 → 관심과 투표율 높으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터넷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홍보 등으로 인한 정치환경 변화로 보수적 성향 강화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871" name="AutoShape 2"/>
            <p:cNvSpPr/>
            <p:nvPr/>
          </p:nvSpPr>
          <p:spPr>
            <a:xfrm>
              <a:off x="285480" y="3786120"/>
              <a:ext cx="8572680" cy="1285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72" name="그룹 20"/>
            <p:cNvGrpSpPr/>
            <p:nvPr/>
          </p:nvGrpSpPr>
          <p:grpSpPr>
            <a:xfrm>
              <a:off x="0" y="0"/>
              <a:ext cx="9144000" cy="3286080"/>
              <a:chOff x="0" y="0"/>
              <a:chExt cx="9144000" cy="3286080"/>
            </a:xfrm>
          </p:grpSpPr>
          <p:sp>
            <p:nvSpPr>
              <p:cNvPr id="873" name="AutoShape 2"/>
              <p:cNvSpPr/>
              <p:nvPr/>
            </p:nvSpPr>
            <p:spPr>
              <a:xfrm>
                <a:off x="285480" y="2000160"/>
                <a:ext cx="857268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74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5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5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성공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76" name="그룹 10"/>
            <p:cNvGrpSpPr/>
            <p:nvPr/>
          </p:nvGrpSpPr>
          <p:grpSpPr>
            <a:xfrm>
              <a:off x="285480" y="928440"/>
              <a:ext cx="7643880" cy="2288520"/>
              <a:chOff x="285480" y="928440"/>
              <a:chExt cx="7643880" cy="2288520"/>
            </a:xfrm>
          </p:grpSpPr>
          <p:sp>
            <p:nvSpPr>
              <p:cNvPr id="877" name="AutoShape 4"/>
              <p:cNvSpPr/>
              <p:nvPr/>
            </p:nvSpPr>
            <p:spPr>
              <a:xfrm>
                <a:off x="285480" y="928440"/>
                <a:ext cx="5357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500" spc="-1" strike="noStrike">
                    <a:solidFill>
                      <a:srgbClr val="ffffff"/>
                    </a:solidFill>
                    <a:latin typeface="HY강B"/>
                  </a:rPr>
                  <a:t>성공적 노화의 개념과 구성요인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78" name="Text Box 6"/>
              <p:cNvSpPr/>
              <p:nvPr/>
            </p:nvSpPr>
            <p:spPr>
              <a:xfrm>
                <a:off x="356760" y="2014200"/>
                <a:ext cx="757260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미국노년사회학회에서 처음 제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생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학 등에서 연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Row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Kahn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ood aging, active aging, healthy aging, productive aging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15"/>
            <p:cNvSpPr/>
            <p:nvPr/>
          </p:nvSpPr>
          <p:spPr>
            <a:xfrm>
              <a:off x="285480" y="160344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성공적 노화에 대한 관심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Text Box 6"/>
            <p:cNvSpPr/>
            <p:nvPr/>
          </p:nvSpPr>
          <p:spPr>
            <a:xfrm>
              <a:off x="357120" y="3871800"/>
              <a:ext cx="864396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생물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기능 수준이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만족과 환경에 대한 적응 수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높은 상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Rowe &amp; Kahn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최적의 노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optimal aging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유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직사각형 19"/>
            <p:cNvSpPr/>
            <p:nvPr/>
          </p:nvSpPr>
          <p:spPr>
            <a:xfrm>
              <a:off x="285480" y="338940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직사각형 20"/>
            <p:cNvSpPr/>
            <p:nvPr/>
          </p:nvSpPr>
          <p:spPr>
            <a:xfrm>
              <a:off x="285480" y="521496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구성요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3" name="AutoShape 2"/>
            <p:cNvSpPr/>
            <p:nvPr/>
          </p:nvSpPr>
          <p:spPr>
            <a:xfrm>
              <a:off x="285480" y="5572440"/>
              <a:ext cx="857268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4" name="Text Box 6"/>
            <p:cNvSpPr/>
            <p:nvPr/>
          </p:nvSpPr>
          <p:spPr>
            <a:xfrm>
              <a:off x="357120" y="5572440"/>
              <a:ext cx="86439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6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&amp;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공적 노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healthy aging + adaptive aging + active or productive aging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그룹 7"/>
          <p:cNvGrpSpPr/>
          <p:nvPr/>
        </p:nvGrpSpPr>
        <p:grpSpPr>
          <a:xfrm>
            <a:off x="285840" y="357120"/>
            <a:ext cx="8647200" cy="5786640"/>
            <a:chOff x="285840" y="357120"/>
            <a:chExt cx="8647200" cy="5786640"/>
          </a:xfrm>
        </p:grpSpPr>
        <p:pic>
          <p:nvPicPr>
            <p:cNvPr id="886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785880" y="4988160"/>
              <a:ext cx="12859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Rectangle 4"/>
            <p:cNvSpPr/>
            <p:nvPr/>
          </p:nvSpPr>
          <p:spPr>
            <a:xfrm>
              <a:off x="2071800" y="5500800"/>
              <a:ext cx="628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경제생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88" name="그룹 7"/>
            <p:cNvGrpSpPr/>
            <p:nvPr/>
          </p:nvGrpSpPr>
          <p:grpSpPr>
            <a:xfrm>
              <a:off x="285840" y="357120"/>
              <a:ext cx="8647200" cy="4000680"/>
              <a:chOff x="285840" y="357120"/>
              <a:chExt cx="8647200" cy="4000680"/>
            </a:xfrm>
          </p:grpSpPr>
          <p:sp>
            <p:nvSpPr>
              <p:cNvPr id="889" name="AutoShape 4"/>
              <p:cNvSpPr/>
              <p:nvPr/>
            </p:nvSpPr>
            <p:spPr>
              <a:xfrm>
                <a:off x="285840" y="357120"/>
                <a:ext cx="5087880" cy="51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성공적 노화의 촉진방안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0" name="AutoShape 2"/>
              <p:cNvSpPr/>
              <p:nvPr/>
            </p:nvSpPr>
            <p:spPr>
              <a:xfrm>
                <a:off x="285840" y="1097280"/>
                <a:ext cx="8643960" cy="326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1" name="Text Box 6"/>
              <p:cNvSpPr/>
              <p:nvPr/>
            </p:nvSpPr>
            <p:spPr>
              <a:xfrm>
                <a:off x="428400" y="1260360"/>
                <a:ext cx="8504640" cy="29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건강증진 위한 생활습관 관리와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차적 예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심리적 만족과 정신적 건강생활 위한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회고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평생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영성훈련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스트레스 관리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안정 지원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후자금 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배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활동 참여 및 사회발전 기여활동 기회 부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적 관계 유지 및 적극적 여가참여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711" name="AutoShape 2"/>
            <p:cNvSpPr/>
            <p:nvPr/>
          </p:nvSpPr>
          <p:spPr>
            <a:xfrm>
              <a:off x="180720" y="5857920"/>
              <a:ext cx="882036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180720" y="1500120"/>
              <a:ext cx="882036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AutoShape 2"/>
            <p:cNvSpPr/>
            <p:nvPr/>
          </p:nvSpPr>
          <p:spPr>
            <a:xfrm>
              <a:off x="180720" y="392904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화의 개념과 영역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16" name="그룹 22"/>
            <p:cNvGrpSpPr/>
            <p:nvPr/>
          </p:nvGrpSpPr>
          <p:grpSpPr>
            <a:xfrm>
              <a:off x="142560" y="928440"/>
              <a:ext cx="8786880" cy="5399640"/>
              <a:chOff x="142560" y="928440"/>
              <a:chExt cx="8786880" cy="5399640"/>
            </a:xfrm>
          </p:grpSpPr>
          <p:grpSp>
            <p:nvGrpSpPr>
              <p:cNvPr id="717" name="그룹 10"/>
              <p:cNvGrpSpPr/>
              <p:nvPr/>
            </p:nvGrpSpPr>
            <p:grpSpPr>
              <a:xfrm>
                <a:off x="142560" y="928440"/>
                <a:ext cx="8786880" cy="2269080"/>
                <a:chOff x="142560" y="928440"/>
                <a:chExt cx="8786880" cy="2269080"/>
              </a:xfrm>
            </p:grpSpPr>
            <p:sp>
              <p:nvSpPr>
                <p:cNvPr id="718" name="AutoShape 29"/>
                <p:cNvSpPr/>
                <p:nvPr/>
              </p:nvSpPr>
              <p:spPr>
                <a:xfrm>
                  <a:off x="142560" y="9284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발달로서의 노화</a:t>
                  </a: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(aging)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25"/>
                <p:cNvSpPr/>
                <p:nvPr/>
              </p:nvSpPr>
              <p:spPr>
                <a:xfrm>
                  <a:off x="285120" y="1572480"/>
                  <a:ext cx="8644320" cy="162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생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의 연속적이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서정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며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승적 발달과 퇴행적 발달을 포괄하는 역동적인 안정과 변화의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 중 퇴행적 발달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숙과 대비되는 개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그룹 10"/>
              <p:cNvGrpSpPr/>
              <p:nvPr/>
            </p:nvGrpSpPr>
            <p:grpSpPr>
              <a:xfrm>
                <a:off x="142560" y="3390480"/>
                <a:ext cx="8786880" cy="1783440"/>
                <a:chOff x="142560" y="3390480"/>
                <a:chExt cx="8786880" cy="1783440"/>
              </a:xfrm>
            </p:grpSpPr>
            <p:sp>
              <p:nvSpPr>
                <p:cNvPr id="721" name="AutoShape 29"/>
                <p:cNvSpPr/>
                <p:nvPr/>
              </p:nvSpPr>
              <p:spPr>
                <a:xfrm>
                  <a:off x="142560" y="339048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개념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25"/>
                <p:cNvSpPr/>
                <p:nvPr/>
              </p:nvSpPr>
              <p:spPr>
                <a:xfrm>
                  <a:off x="285120" y="4012560"/>
                  <a:ext cx="8644320" cy="11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간의 흐름에 따라 유기체의 생물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점진적이고 정상적인 발달과정상의 변화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로 퇴행적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을 의미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그룹 10"/>
              <p:cNvGrpSpPr/>
              <p:nvPr/>
            </p:nvGrpSpPr>
            <p:grpSpPr>
              <a:xfrm>
                <a:off x="142560" y="5286240"/>
                <a:ext cx="8572680" cy="1041840"/>
                <a:chOff x="142560" y="5286240"/>
                <a:chExt cx="8572680" cy="1041840"/>
              </a:xfrm>
            </p:grpSpPr>
            <p:sp>
              <p:nvSpPr>
                <p:cNvPr id="724" name="AutoShape 29"/>
                <p:cNvSpPr/>
                <p:nvPr/>
              </p:nvSpPr>
              <p:spPr>
                <a:xfrm>
                  <a:off x="142560" y="52862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영역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25"/>
                <p:cNvSpPr/>
                <p:nvPr/>
              </p:nvSpPr>
              <p:spPr>
                <a:xfrm>
                  <a:off x="285120" y="5929200"/>
                  <a:ext cx="6215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노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그룹 9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727" name="AutoShape 2"/>
            <p:cNvSpPr/>
            <p:nvPr/>
          </p:nvSpPr>
          <p:spPr>
            <a:xfrm>
              <a:off x="180720" y="64260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8" name="그룹 10"/>
            <p:cNvGrpSpPr/>
            <p:nvPr/>
          </p:nvGrpSpPr>
          <p:grpSpPr>
            <a:xfrm>
              <a:off x="142920" y="71280"/>
              <a:ext cx="8786880" cy="3424320"/>
              <a:chOff x="142920" y="71280"/>
              <a:chExt cx="8786880" cy="3424320"/>
            </a:xfrm>
          </p:grpSpPr>
          <p:sp>
            <p:nvSpPr>
              <p:cNvPr id="729" name="AutoShape 29"/>
              <p:cNvSpPr/>
              <p:nvPr/>
            </p:nvSpPr>
            <p:spPr>
              <a:xfrm>
                <a:off x="142920" y="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의 특성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0" name="Text Box 25"/>
              <p:cNvSpPr/>
              <p:nvPr/>
            </p:nvSpPr>
            <p:spPr>
              <a:xfrm>
                <a:off x="285480" y="690480"/>
                <a:ext cx="8644320" cy="28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를 변화로만 보는 경향이 있으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성도 동시에 고려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상실과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쇠퇴와 성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긍정과 부정의 두 측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의 쇠퇴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험과 지혜의 확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보편성과 개별성을 포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유전과 환경에 의한 외적 변화와 내적 변화를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는 원상태로의 복귀가 어렵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非可逆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노화는 원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태로의 회복이 가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 후 재취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1" name="그룹 10"/>
            <p:cNvGrpSpPr/>
            <p:nvPr/>
          </p:nvGrpSpPr>
          <p:grpSpPr>
            <a:xfrm>
              <a:off x="142920" y="3611520"/>
              <a:ext cx="8786880" cy="2610360"/>
              <a:chOff x="142920" y="3611520"/>
              <a:chExt cx="8786880" cy="2610360"/>
            </a:xfrm>
          </p:grpSpPr>
          <p:sp>
            <p:nvSpPr>
              <p:cNvPr id="732" name="AutoShape 29"/>
              <p:cNvSpPr/>
              <p:nvPr/>
            </p:nvSpPr>
            <p:spPr>
              <a:xfrm>
                <a:off x="142920" y="36115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와 질병의 관계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3" name="Text Box 25"/>
              <p:cNvSpPr/>
              <p:nvPr/>
            </p:nvSpPr>
            <p:spPr>
              <a:xfrm>
                <a:off x="285480" y="4184640"/>
                <a:ext cx="864432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결과를 질병으로 간주하는 경향이 있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자체만으로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유발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진행과 함께 발병 가능성이 높아지는 것은 병리적 노화 때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기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과 환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→ 신체기능의 저하 → 위험인자 개입 →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리적 노화로 전환 → 질병에의 이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34" name="AutoShape 2"/>
            <p:cNvSpPr/>
            <p:nvPr/>
          </p:nvSpPr>
          <p:spPr>
            <a:xfrm>
              <a:off x="180720" y="4143600"/>
              <a:ext cx="882036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그룹 17"/>
          <p:cNvGrpSpPr/>
          <p:nvPr/>
        </p:nvGrpSpPr>
        <p:grpSpPr>
          <a:xfrm>
            <a:off x="0" y="0"/>
            <a:ext cx="9144000" cy="6424920"/>
            <a:chOff x="0" y="0"/>
            <a:chExt cx="9144000" cy="6424920"/>
          </a:xfrm>
        </p:grpSpPr>
        <p:pic>
          <p:nvPicPr>
            <p:cNvPr id="73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Rectangle 2"/>
            <p:cNvSpPr/>
            <p:nvPr/>
          </p:nvSpPr>
          <p:spPr>
            <a:xfrm>
              <a:off x="1428480" y="71280"/>
              <a:ext cx="728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생물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38" name="그룹 34"/>
            <p:cNvGrpSpPr/>
            <p:nvPr/>
          </p:nvGrpSpPr>
          <p:grpSpPr>
            <a:xfrm>
              <a:off x="142560" y="785520"/>
              <a:ext cx="8858520" cy="3286080"/>
              <a:chOff x="142560" y="785520"/>
              <a:chExt cx="8858520" cy="3286080"/>
            </a:xfrm>
          </p:grpSpPr>
          <p:grpSp>
            <p:nvGrpSpPr>
              <p:cNvPr id="739" name="그룹 6"/>
              <p:cNvGrpSpPr/>
              <p:nvPr/>
            </p:nvGrpSpPr>
            <p:grpSpPr>
              <a:xfrm>
                <a:off x="180360" y="2531880"/>
                <a:ext cx="8820720" cy="1539720"/>
                <a:chOff x="180360" y="2531880"/>
                <a:chExt cx="8820720" cy="1539720"/>
              </a:xfrm>
            </p:grpSpPr>
            <p:sp>
              <p:nvSpPr>
                <p:cNvPr id="740" name="AutoShape 2"/>
                <p:cNvSpPr/>
                <p:nvPr/>
              </p:nvSpPr>
              <p:spPr>
                <a:xfrm>
                  <a:off x="180360" y="2531880"/>
                  <a:ext cx="8820720" cy="1539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25"/>
                <p:cNvSpPr/>
                <p:nvPr/>
              </p:nvSpPr>
              <p:spPr>
                <a:xfrm>
                  <a:off x="213480" y="2571480"/>
                  <a:ext cx="8787600" cy="148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퇴화과정이 생물적 재생산과정을 능가하여 유기체내에 퇴행적 변화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발달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이가 들어감에 따라 신체 구조 및 신체 내부의 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기 등 유기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반에 일어나는 쇠퇴적 발달 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그룹 30"/>
              <p:cNvGrpSpPr/>
              <p:nvPr/>
            </p:nvGrpSpPr>
            <p:grpSpPr>
              <a:xfrm>
                <a:off x="180720" y="785520"/>
                <a:ext cx="8820360" cy="1285920"/>
                <a:chOff x="180720" y="785520"/>
                <a:chExt cx="8820360" cy="1285920"/>
              </a:xfrm>
            </p:grpSpPr>
            <p:sp>
              <p:nvSpPr>
                <p:cNvPr id="743" name="AutoShape 2"/>
                <p:cNvSpPr/>
                <p:nvPr/>
              </p:nvSpPr>
              <p:spPr>
                <a:xfrm>
                  <a:off x="180720" y="1213920"/>
                  <a:ext cx="8820360" cy="857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4" name="AutoShape 7"/>
                <p:cNvSpPr/>
                <p:nvPr/>
              </p:nvSpPr>
              <p:spPr>
                <a:xfrm>
                  <a:off x="285120" y="785520"/>
                  <a:ext cx="47865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0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생물적 노화의 개념과 특성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5" name="Text Box 25"/>
                <p:cNvSpPr/>
                <p:nvPr/>
              </p:nvSpPr>
              <p:spPr>
                <a:xfrm>
                  <a:off x="294480" y="1285560"/>
                  <a:ext cx="8563680" cy="71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반적으로 노화를 신체구조의 외적 변화를 의미할 정도로 신체적 노화가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익숙한 개념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가 더욱 정확한 개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AutoShape 29"/>
              <p:cNvSpPr/>
              <p:nvPr/>
            </p:nvSpPr>
            <p:spPr>
              <a:xfrm>
                <a:off x="142560" y="20714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47" name="그룹 33"/>
            <p:cNvGrpSpPr/>
            <p:nvPr/>
          </p:nvGrpSpPr>
          <p:grpSpPr>
            <a:xfrm>
              <a:off x="142560" y="4021200"/>
              <a:ext cx="8858520" cy="2403720"/>
              <a:chOff x="142560" y="4021200"/>
              <a:chExt cx="8858520" cy="2403720"/>
            </a:xfrm>
          </p:grpSpPr>
          <p:grpSp>
            <p:nvGrpSpPr>
              <p:cNvPr id="748" name="그룹 6"/>
              <p:cNvGrpSpPr/>
              <p:nvPr/>
            </p:nvGrpSpPr>
            <p:grpSpPr>
              <a:xfrm>
                <a:off x="180720" y="4481280"/>
                <a:ext cx="8820360" cy="1943640"/>
                <a:chOff x="180720" y="4481280"/>
                <a:chExt cx="8820360" cy="1943640"/>
              </a:xfrm>
            </p:grpSpPr>
            <p:sp>
              <p:nvSpPr>
                <p:cNvPr id="749" name="AutoShape 2"/>
                <p:cNvSpPr/>
                <p:nvPr/>
              </p:nvSpPr>
              <p:spPr>
                <a:xfrm>
                  <a:off x="180720" y="4481280"/>
                  <a:ext cx="8820360" cy="189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5"/>
                <p:cNvSpPr/>
                <p:nvPr/>
              </p:nvSpPr>
              <p:spPr>
                <a:xfrm>
                  <a:off x="213840" y="4520880"/>
                  <a:ext cx="8644320" cy="190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쇠퇴로 인하여 활력을 상실하고 질병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저항력이 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기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체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체 통제기제 등의 쇠퇴와 기능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29"/>
              <p:cNvSpPr/>
              <p:nvPr/>
            </p:nvSpPr>
            <p:spPr>
              <a:xfrm>
                <a:off x="142560" y="4021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영역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그룹 17"/>
          <p:cNvGrpSpPr/>
          <p:nvPr/>
        </p:nvGrpSpPr>
        <p:grpSpPr>
          <a:xfrm>
            <a:off x="142920" y="0"/>
            <a:ext cx="8858160" cy="6286680"/>
            <a:chOff x="142920" y="0"/>
            <a:chExt cx="8858160" cy="6286680"/>
          </a:xfrm>
        </p:grpSpPr>
        <p:grpSp>
          <p:nvGrpSpPr>
            <p:cNvPr id="753" name="그룹 9"/>
            <p:cNvGrpSpPr/>
            <p:nvPr/>
          </p:nvGrpSpPr>
          <p:grpSpPr>
            <a:xfrm>
              <a:off x="142920" y="0"/>
              <a:ext cx="8858160" cy="2143080"/>
              <a:chOff x="142920" y="0"/>
              <a:chExt cx="8858160" cy="2143080"/>
            </a:xfrm>
          </p:grpSpPr>
          <p:grpSp>
            <p:nvGrpSpPr>
              <p:cNvPr id="754" name="그룹 6"/>
              <p:cNvGrpSpPr/>
              <p:nvPr/>
            </p:nvGrpSpPr>
            <p:grpSpPr>
              <a:xfrm>
                <a:off x="181080" y="531720"/>
                <a:ext cx="8820000" cy="1611360"/>
                <a:chOff x="181080" y="531720"/>
                <a:chExt cx="8820000" cy="1611360"/>
              </a:xfrm>
            </p:grpSpPr>
            <p:sp>
              <p:nvSpPr>
                <p:cNvPr id="755" name="AutoShape 2"/>
                <p:cNvSpPr/>
                <p:nvPr/>
              </p:nvSpPr>
              <p:spPr>
                <a:xfrm>
                  <a:off x="181080" y="531720"/>
                  <a:ext cx="8820000" cy="1611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25"/>
                <p:cNvSpPr/>
                <p:nvPr/>
              </p:nvSpPr>
              <p:spPr>
                <a:xfrm>
                  <a:off x="214200" y="633240"/>
                  <a:ext cx="8643960" cy="143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외적 환경요인에 의해 촉진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전 등 내적 요인에 의해 주로 유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모든 사람에게 보편적으로 나타나지만 노화 속도나 정도는 개인차 있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저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상생활 능력 저하로 인해 신체에 부정적 영향을 미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에 대한 저항력 상실을 초래하고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명의 종식에 이르게 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AutoShape 29"/>
              <p:cNvSpPr/>
              <p:nvPr/>
            </p:nvSpPr>
            <p:spPr>
              <a:xfrm>
                <a:off x="142920" y="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원인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58" name="그룹 14"/>
            <p:cNvGrpSpPr/>
            <p:nvPr/>
          </p:nvGrpSpPr>
          <p:grpSpPr>
            <a:xfrm>
              <a:off x="142920" y="2112840"/>
              <a:ext cx="8858160" cy="2673360"/>
              <a:chOff x="142920" y="2112840"/>
              <a:chExt cx="8858160" cy="2673360"/>
            </a:xfrm>
          </p:grpSpPr>
          <p:grpSp>
            <p:nvGrpSpPr>
              <p:cNvPr id="759" name="그룹 6"/>
              <p:cNvGrpSpPr/>
              <p:nvPr/>
            </p:nvGrpSpPr>
            <p:grpSpPr>
              <a:xfrm>
                <a:off x="181080" y="2644560"/>
                <a:ext cx="8820000" cy="2141640"/>
                <a:chOff x="181080" y="2644560"/>
                <a:chExt cx="8820000" cy="2141640"/>
              </a:xfrm>
            </p:grpSpPr>
            <p:sp>
              <p:nvSpPr>
                <p:cNvPr id="760" name="AutoShape 2"/>
                <p:cNvSpPr/>
                <p:nvPr/>
              </p:nvSpPr>
              <p:spPr>
                <a:xfrm>
                  <a:off x="181080" y="2644560"/>
                  <a:ext cx="8820000" cy="2141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5"/>
                <p:cNvSpPr/>
                <p:nvPr/>
              </p:nvSpPr>
              <p:spPr>
                <a:xfrm>
                  <a:off x="214200" y="2706480"/>
                  <a:ext cx="8643960" cy="199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최적의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적 유전요인과 긍정적 환경의 작용으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의 저하가 최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한도인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공적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통상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중성적 유전요인에 부정적 환경요인이 작용하여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과 기능제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초래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 정도가 심하지 않은 상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병리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적 유전요인에 부정적 환경요인이 작용하여 심각한 만성질환과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애를 초래하는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AutoShape 29"/>
              <p:cNvSpPr/>
              <p:nvPr/>
            </p:nvSpPr>
            <p:spPr>
              <a:xfrm>
                <a:off x="142920" y="21128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수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63" name="그룹 19"/>
            <p:cNvGrpSpPr/>
            <p:nvPr/>
          </p:nvGrpSpPr>
          <p:grpSpPr>
            <a:xfrm>
              <a:off x="142920" y="4870800"/>
              <a:ext cx="8858160" cy="1415880"/>
              <a:chOff x="142920" y="4870800"/>
              <a:chExt cx="8858160" cy="1415880"/>
            </a:xfrm>
          </p:grpSpPr>
          <p:grpSp>
            <p:nvGrpSpPr>
              <p:cNvPr id="764" name="그룹 6"/>
              <p:cNvGrpSpPr/>
              <p:nvPr/>
            </p:nvGrpSpPr>
            <p:grpSpPr>
              <a:xfrm>
                <a:off x="181080" y="5382720"/>
                <a:ext cx="8820000" cy="903960"/>
                <a:chOff x="181080" y="5382720"/>
                <a:chExt cx="8820000" cy="903960"/>
              </a:xfrm>
            </p:grpSpPr>
            <p:sp>
              <p:nvSpPr>
                <p:cNvPr id="765" name="AutoShape 2"/>
                <p:cNvSpPr/>
                <p:nvPr/>
              </p:nvSpPr>
              <p:spPr>
                <a:xfrm>
                  <a:off x="181080" y="5382720"/>
                  <a:ext cx="8820000" cy="903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25"/>
                <p:cNvSpPr/>
                <p:nvPr/>
              </p:nvSpPr>
              <p:spPr>
                <a:xfrm>
                  <a:off x="214200" y="5435640"/>
                  <a:ext cx="8643960" cy="74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의 수용→ 심리사회적 기능의 유지와 발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에 집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몰두→ 심리사회적 기능의 손상과 삶의 만족도 저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AutoShape 29"/>
              <p:cNvSpPr/>
              <p:nvPr/>
            </p:nvSpPr>
            <p:spPr>
              <a:xfrm>
                <a:off x="142920" y="4870800"/>
                <a:ext cx="8572680" cy="4870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영향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그룹 6"/>
          <p:cNvGrpSpPr/>
          <p:nvPr/>
        </p:nvGrpSpPr>
        <p:grpSpPr>
          <a:xfrm>
            <a:off x="285840" y="0"/>
            <a:ext cx="8643960" cy="6286680"/>
            <a:chOff x="285840" y="0"/>
            <a:chExt cx="8643960" cy="6286680"/>
          </a:xfrm>
        </p:grpSpPr>
        <p:pic>
          <p:nvPicPr>
            <p:cNvPr id="769" name="Picture 2" descr="C:\DOCUME~1\USER\LOCALS~1\Temp\UNI00000c2870a4.gif"/>
            <p:cNvPicPr/>
            <p:nvPr/>
          </p:nvPicPr>
          <p:blipFill>
            <a:blip r:embed="rId1"/>
            <a:stretch/>
          </p:blipFill>
          <p:spPr>
            <a:xfrm>
              <a:off x="4786560" y="0"/>
              <a:ext cx="40719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AutoShape 4"/>
            <p:cNvSpPr/>
            <p:nvPr/>
          </p:nvSpPr>
          <p:spPr>
            <a:xfrm>
              <a:off x="285840" y="71424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생물적 노화의 주요이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1" name="그룹 6"/>
            <p:cNvGrpSpPr/>
            <p:nvPr/>
          </p:nvGrpSpPr>
          <p:grpSpPr>
            <a:xfrm>
              <a:off x="357120" y="1579680"/>
              <a:ext cx="8572680" cy="4707000"/>
              <a:chOff x="357120" y="1579680"/>
              <a:chExt cx="8572680" cy="4707000"/>
            </a:xfrm>
          </p:grpSpPr>
          <p:sp>
            <p:nvSpPr>
              <p:cNvPr id="772" name="AutoShape 2"/>
              <p:cNvSpPr/>
              <p:nvPr/>
            </p:nvSpPr>
            <p:spPr>
              <a:xfrm>
                <a:off x="357120" y="1579680"/>
                <a:ext cx="8572680" cy="4707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3" name="Text Box 6"/>
              <p:cNvSpPr/>
              <p:nvPr/>
            </p:nvSpPr>
            <p:spPr>
              <a:xfrm>
                <a:off x="717480" y="1960560"/>
                <a:ext cx="8069760" cy="40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용마모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축적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차연결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변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분열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해산소이론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조절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오류재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DNA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다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질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텔로메라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학적 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진대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열량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망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경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흉선자극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명속도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통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반응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동면역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그룹 1"/>
          <p:cNvGrpSpPr/>
          <p:nvPr/>
        </p:nvGrpSpPr>
        <p:grpSpPr>
          <a:xfrm>
            <a:off x="142920" y="428760"/>
            <a:ext cx="8858160" cy="5786280"/>
            <a:chOff x="142920" y="428760"/>
            <a:chExt cx="8858160" cy="5786280"/>
          </a:xfrm>
        </p:grpSpPr>
        <p:grpSp>
          <p:nvGrpSpPr>
            <p:cNvPr id="775" name="그룹 6"/>
            <p:cNvGrpSpPr/>
            <p:nvPr/>
          </p:nvGrpSpPr>
          <p:grpSpPr>
            <a:xfrm>
              <a:off x="180720" y="1871640"/>
              <a:ext cx="8820360" cy="4343400"/>
              <a:chOff x="180720" y="1871640"/>
              <a:chExt cx="8820360" cy="4343400"/>
            </a:xfrm>
          </p:grpSpPr>
          <p:sp>
            <p:nvSpPr>
              <p:cNvPr id="776" name="AutoShape 2"/>
              <p:cNvSpPr/>
              <p:nvPr/>
            </p:nvSpPr>
            <p:spPr>
              <a:xfrm>
                <a:off x="180720" y="1871640"/>
                <a:ext cx="8820360" cy="4343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7" name="Text Box 25"/>
              <p:cNvSpPr/>
              <p:nvPr/>
            </p:nvSpPr>
            <p:spPr>
              <a:xfrm>
                <a:off x="356760" y="2081160"/>
                <a:ext cx="8644320" cy="372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세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색소인 지방갈색소가 많아지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백질 합성에 필수적인 분자가 생산되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않아 세포가 노화되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기관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이 노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섬유질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섬유질 교체 부진으로 신체조직 쉽게 손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파편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칼슘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체중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비해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로 줄어듦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머리카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ilver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색으로 변화 → 노인의 고유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버세대로 부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피부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얼룩반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성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피하지방과 신경세포 감소로 피부탄력과 체온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 감소 → 온도적응 문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기질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stroke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직구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방분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형분과 수분 감소 → 골절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골다공증 위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골조직 얇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고 탄력약화 → 관절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의근 약화 → 운동기능 저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78" name="그룹 30"/>
            <p:cNvGrpSpPr/>
            <p:nvPr/>
          </p:nvGrpSpPr>
          <p:grpSpPr>
            <a:xfrm>
              <a:off x="181080" y="428760"/>
              <a:ext cx="8748720" cy="970920"/>
              <a:chOff x="181080" y="428760"/>
              <a:chExt cx="8748720" cy="970920"/>
            </a:xfrm>
          </p:grpSpPr>
          <p:sp>
            <p:nvSpPr>
              <p:cNvPr id="779" name="AutoShape 2"/>
              <p:cNvSpPr/>
              <p:nvPr/>
            </p:nvSpPr>
            <p:spPr>
              <a:xfrm>
                <a:off x="181080" y="928800"/>
                <a:ext cx="8748720" cy="47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AutoShape 7"/>
              <p:cNvSpPr/>
              <p:nvPr/>
            </p:nvSpPr>
            <p:spPr>
              <a:xfrm>
                <a:off x="214200" y="428760"/>
                <a:ext cx="4786560" cy="47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생물적 노화의 양상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Text Box 25"/>
              <p:cNvSpPr/>
              <p:nvPr/>
            </p:nvSpPr>
            <p:spPr>
              <a:xfrm>
                <a:off x="366480" y="1000080"/>
                <a:ext cx="8563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를 신체구조 변화와 신체기능 변화로 구분 설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2" name="AutoShape 29"/>
            <p:cNvSpPr/>
            <p:nvPr/>
          </p:nvSpPr>
          <p:spPr>
            <a:xfrm>
              <a:off x="142920" y="1370160"/>
              <a:ext cx="8572680" cy="53784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신체구조의 변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그룹 5"/>
          <p:cNvGrpSpPr/>
          <p:nvPr/>
        </p:nvGrpSpPr>
        <p:grpSpPr>
          <a:xfrm>
            <a:off x="181080" y="142920"/>
            <a:ext cx="8820000" cy="6000840"/>
            <a:chOff x="181080" y="142920"/>
            <a:chExt cx="8820000" cy="6000840"/>
          </a:xfrm>
        </p:grpSpPr>
        <p:grpSp>
          <p:nvGrpSpPr>
            <p:cNvPr id="784" name="그룹 1"/>
            <p:cNvGrpSpPr/>
            <p:nvPr/>
          </p:nvGrpSpPr>
          <p:grpSpPr>
            <a:xfrm>
              <a:off x="181080" y="714240"/>
              <a:ext cx="8820000" cy="5429520"/>
              <a:chOff x="181080" y="714240"/>
              <a:chExt cx="8820000" cy="5429520"/>
            </a:xfrm>
          </p:grpSpPr>
          <p:sp>
            <p:nvSpPr>
              <p:cNvPr id="785" name="AutoShape 2"/>
              <p:cNvSpPr/>
              <p:nvPr/>
            </p:nvSpPr>
            <p:spPr>
              <a:xfrm>
                <a:off x="181080" y="714240"/>
                <a:ext cx="8820000" cy="5429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Text Box 6"/>
              <p:cNvSpPr/>
              <p:nvPr/>
            </p:nvSpPr>
            <p:spPr>
              <a:xfrm>
                <a:off x="285840" y="836280"/>
                <a:ext cx="8643960" cy="50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기 중량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때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노인 신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7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5%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면 심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4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로 증가하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기능 역시 변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심장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혈관 경화로 심장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량 증가로 심박출량과 박동능력은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판막 석회화로 각종 심장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혈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벽 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력감소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졸중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탄성 및 용적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지 확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기량 증가로 호흡기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소화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아결손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효소 분비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 근육 약화로 소화기능 저하되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장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융모 축소와 운동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장변형과 운동저하로 변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숙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종 장 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질의 양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혈관 경화로 기능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 여과비율 감소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질환 위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광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도 기능 저하로 야뇨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대사율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시 산소소모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수화물 대사 증가로 당뇨병 위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내분비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갑상선질환 증가하나 대부분 정상기능 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 및 생식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폐경으로 생식능력 상실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은 음경 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직도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기부전 등으로 성교능력 저하되지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이상에서도 성교 및 생식기능 유지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7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신체기능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1:27:11Z</dcterms:modified>
  <cp:revision>21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